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3.pct" ContentType="image/x-pict"/>
  <Override PartName="/ppt/media/image15.pct" ContentType="image/x-pict"/>
  <Override PartName="/ppt/media/image14.pct" ContentType="image/x-pict"/>
  <Override PartName="/ppt/media/image9.pct" ContentType="image/x-pict"/>
  <Override PartName="/ppt/media/image1.jpeg" ContentType="image/jpeg"/>
  <Override PartName="/ppt/media/image2.jpeg" ContentType="image/jpeg"/>
  <Override PartName="/ppt/media/image4.pct" ContentType="image/x-pict"/>
  <Override PartName="/ppt/media/image5.jpeg" ContentType="image/jpeg"/>
  <Override PartName="/ppt/media/image7.pct" ContentType="image/x-pict"/>
  <Override PartName="/ppt/media/image12.pct" ContentType="image/x-pict"/>
  <Override PartName="/ppt/media/image6.pct" ContentType="image/x-pict"/>
  <Override PartName="/ppt/media/image8.pct" ContentType="image/x-pict"/>
  <Override PartName="/ppt/media/image13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5556-9024-45D7-857A-E43014EEEA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Planning a tiered activity -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s for ABC kid dif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variation sheets/ 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dout: tiered activities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Bloom’s revised tax plan frame, tiered assignment temp      ~ continu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dout smarts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handout w produc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MPER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rno wks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a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valuate 1 in eac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or good differentiated?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want guidance can work with me, or independen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wks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r ch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ontinuum%20of%20complexity.xls" TargetMode="External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ainstorming.co.uk/tutorials/scampertutorial.html" TargetMode="External"/><Relationship Id="rId3" Type="http://schemas.openxmlformats.org/officeDocument/2006/relationships/hyperlink" Target="http://www.brainstorming.co.uk/tutorials/scampertutorial.html" TargetMode="External"/><Relationship Id="rId4" Type="http://schemas.openxmlformats.org/officeDocument/2006/relationships/hyperlink" Target="http://www.brainstorming.co.uk/tutorials/scampertutorial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e.in.gov/exceptional/gt/tiered_curriculum/welcome.html" TargetMode="External"/><Relationship Id="rId3" Type="http://schemas.openxmlformats.org/officeDocument/2006/relationships/hyperlink" Target="http://www.doe.in.gov/exceptional/gt/tiered_curriculum/welcome.html" TargetMode="External"/><Relationship Id="rId4" Type="http://schemas.openxmlformats.org/officeDocument/2006/relationships/hyperlink" Target="http://www.doe.in.gov/exceptional/gt/tiered_curriculum/welcome.html" TargetMode="External"/><Relationship Id="rId5" Type="http://schemas.openxmlformats.org/officeDocument/2006/relationships/image" Target="../media/image14.pct"/><Relationship Id="rId6" Type="http://schemas.openxmlformats.org/officeDocument/2006/relationships/hyperlink" Target="http://www.bcps.k12.md.us/Staff/index.asp" TargetMode="External"/><Relationship Id="rId7" Type="http://schemas.openxmlformats.org/officeDocument/2006/relationships/hyperlink" Target="http://www.bcps.k12.md.us/Staff/index.asp" TargetMode="External"/><Relationship Id="rId8" Type="http://schemas.openxmlformats.org/officeDocument/2006/relationships/hyperlink" Target="http://www.bcps.k12.md.us/Staff/index.asp" TargetMode="External"/><Relationship Id="rId9" Type="http://schemas.openxmlformats.org/officeDocument/2006/relationships/hyperlink" Target="http://www.bcps.k12.md.us/Staff/index.asp" TargetMode="External"/><Relationship Id="rId10" Type="http://schemas.openxmlformats.org/officeDocument/2006/relationships/hyperlink" Target="http://www.bcps.k12.md.us/Staff/index.asp" TargetMode="External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4989240"/>
            <a:ext cx="658836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Tiered Less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486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ednesday &amp; Thursday    1:0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41400" y="47242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cy Doni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you tier a less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Reflect upon data with the final assessment in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assessment &amp;/or Formative assessment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ive/Obj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ized &amp;/or Common assessment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nfuse your teaching style into a curriculum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priate for most students’ understanding &amp; sk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Create vari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comp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comp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Develop closure experiences through whole class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or L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how What Ya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you create varia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ep 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ess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m’s Revi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nitiv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um of Complexity </a:t>
            </a:r>
            <a:r>
              <a:rPr b="0" lang="en-US" sz="20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73800" y="2955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9940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2497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differentiation that can help create good activ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s into general 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Intelligences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M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http://www.brainstorming.co.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3"/>
              </a:rPr>
              <a:t>uk/tutorial/scampertutorial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4"/>
              </a:rPr>
              <a:t>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*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6752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952880" y="2235240"/>
            <a:ext cx="38862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children in the right t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Student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124080" y="2743200"/>
            <a:ext cx="31482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deo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iated Instruction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CD,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57400" y="2590920"/>
            <a:ext cx="5257800" cy="381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07600" y="6400800"/>
            <a:ext cx="25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ac5"/>
                </a:solidFill>
                <a:uFillTx/>
                <a:latin typeface="Arial"/>
              </a:rPr>
              <a:t>www.flickr.com/photos/ pinprick/61807669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aluating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partner to evaluate a sample of tiered les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http://www.doe.in.</a:t>
            </a:r>
            <a:r>
              <a:rPr b="1" lang="en-US" sz="1400" spc="-1" strike="noStrike" u="sng">
                <a:solidFill>
                  <a:srgbClr val="a8756f"/>
                </a:solidFill>
                <a:uFillTx/>
                <a:latin typeface="Arial"/>
                <a:hlinkClick r:id="rId3"/>
              </a:rPr>
              <a:t>gov/exceptional/gt/tiered_curriculum/welcome</a:t>
            </a:r>
            <a:r>
              <a:rPr b="1" lang="en-US" sz="1400" spc="-1" strike="noStrike" u="sng">
                <a:solidFill>
                  <a:srgbClr val="a8756f"/>
                </a:solidFill>
                <a:uFillTx/>
                <a:latin typeface="Arial"/>
                <a:hlinkClick r:id="rId4"/>
              </a:rPr>
              <a:t>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09680" y="3048120"/>
            <a:ext cx="4826160" cy="3225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11080" y="6324480"/>
            <a:ext cx="22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6"/>
              </a:rPr>
              <a:t>www.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7"/>
              </a:rPr>
              <a:t>bcps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8"/>
              </a:rPr>
              <a:t>.k12.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9"/>
              </a:rPr>
              <a:t>md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10"/>
              </a:rPr>
              <a:t>.us/ Staff/index.asp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’s try it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1960" y="275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21240" y="1676520"/>
            <a:ext cx="73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ork in a group or pair that “makes sense” to your topic or grade level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28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8480" y="228600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d4d4d"/>
                </a:solidFill>
                <a:latin typeface="Arial"/>
              </a:rPr>
              <a:t>Planning a Tiered Activity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433560" y="6172200"/>
            <a:ext cx="270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ac5"/>
                </a:solidFill>
                <a:uFillTx/>
                <a:latin typeface="Arial"/>
              </a:rPr>
              <a:t>www.ourfixerupper.com/ designer-ladder.ht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ement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expectation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gnitive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omotor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skill &amp; physical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, run, small motor skil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ive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 &amp; Behaviors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ing with emotions &amp; expressin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ement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check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practice is always benefi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ers, bulletin boards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-assess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cept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5880" y="2438280"/>
            <a:ext cx="277812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2413080"/>
            <a:ext cx="4648320" cy="335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5880" y="617220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ac5"/>
                </a:solidFill>
                <a:uFillTx/>
                <a:latin typeface="Arial"/>
              </a:rPr>
              <a:t>www.cals.vt.edu/.../ jan2007/concepts.htm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ac5"/>
                </a:solidFill>
                <a:uFillTx/>
                <a:latin typeface="Arial"/>
              </a:rPr>
              <a:t>classroomtech.wordpress.com/...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tudents awa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ifferentiation looks like in your ro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arents aware of all of these abov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ning of the year booklet/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 to school n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 communication from your ro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 calls or e-m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ing on the pa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5410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i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successfully tier a lesson of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31000" y="254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7920" y="4989240"/>
            <a:ext cx="658836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Tiered Less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5486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ednesday &amp; Thursday    1:0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5410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i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successfully tier a lesson of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1000" y="254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ier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essential knowledge &amp; skills via different paths for students to travel to arrive at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gotsky (1962)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oximal develop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and i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ingore, 200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ways information is introduced to the brain, more dendriti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th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ccess are created to enhance memory (Willis, 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should you use tier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5257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se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am I really learn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360" y="2666880"/>
            <a:ext cx="80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en the difficulty of the task or skill is just slightly above where you are now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81080" y="3048120"/>
          <a:ext cx="4648320" cy="274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3048120"/>
                    <a:ext cx="4648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5867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tiered assignments to be relevant, significant learning, they must add depth and breadth to each student’s understanding of essential questions.” </a:t>
            </a:r>
            <a:r>
              <a:rPr b="0" i="1" lang="en-US" sz="1400" spc="-1" strike="noStrike">
                <a:solidFill>
                  <a:srgbClr val="4d4d4d"/>
                </a:solidFill>
                <a:latin typeface="Arial"/>
              </a:rPr>
              <a:t>Diane Heacox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26480" y="5638680"/>
            <a:ext cx="36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http://www.wilmette39.org/DI39/iagc05tier/TieredStrategy2.ht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should you use tier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579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the optimal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64911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93720" y="6400800"/>
            <a:ext cx="36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http://www.wilmette39.org/DI39/iagc05tier/TieredStrategy2.ht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66680" y="2286000"/>
          <a:ext cx="7315200" cy="377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286000"/>
                    <a:ext cx="73152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needs tiered less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26840"/>
            <a:ext cx="57150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already mastered the basic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revisit the basic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ready to apply the basic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and respond be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sthe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5880" y="2362320"/>
          <a:ext cx="2757600" cy="3047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362320"/>
                    <a:ext cx="27576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should you use tiered less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ad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ity &amp;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om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ve introduced a new concept and students are 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ferent pla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i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all students to read a particular piece of literature and you know they will respond 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ferent lev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give students an opportunity to show what they’ve learned us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ir prefer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lligence or learn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you tier a less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ndard(s) you’re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de on your target: KU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how students will demonstrate learning achievement (summative assess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s most applicable to demonstrating 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ntro-level for who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Franklin</cp:lastModifiedBy>
  <cp:lastPrinted>2009-06-12T17:28:29Z</cp:lastPrinted>
  <dcterms:modified xsi:type="dcterms:W3CDTF">2009-06-12T17:39:05Z</dcterms:modified>
  <cp:revision>90</cp:revision>
  <dc:subject/>
  <dc:title>PowerPoint Template</dc:title>
</cp:coreProperties>
</file>